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FFAB-ECE4-4F42-A21F-5C0B306E5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6293-857E-4331-A8AA-53891B4BC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FBB-52FE-4734-B1E9-89B8FB54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5D6-33B4-4AF7-9897-15799047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C697B-3877-4ABD-8853-2E496B8C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1B880-CE2C-4607-B918-0780E7D9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CD945-BBED-4120-B10D-D8A274A8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8C8E2-AB6F-4881-98A9-B190FFC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2A019-B229-4FFE-A5FA-B90F2B68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1022A-C59D-4D8B-896C-6585E3A5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FB328-020E-4E08-AA04-F47E0114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720A9-49AC-461A-BA80-9F958643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6C072-1D86-40B0-AD98-C52C184B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AB2-58EC-455B-A13F-D64F3221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C8D-9D59-45FB-8CDD-1FC3F068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C5BE-CF04-4B21-BEA6-B8C967CC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2E3E-4931-4977-AEDD-0944EE58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1E88-E6E7-4B64-9B8A-6302589C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1312-0A43-4A61-971B-4322D0C7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B3F0-3C57-497D-87F0-0F9D38DD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3B7E-8C5E-484D-97D8-391B1835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6E8E-4C9A-494F-92A2-F71E0E7C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632-909F-45CF-8953-610A68A3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3686-CCB7-4005-A6DD-CEB6579F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00CE-CF48-48FF-A9D8-5E24F547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F279-A191-4380-B611-2882E415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710A-4C83-4832-9EFE-12EA6EE9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67AF-C9C3-49DC-847B-4495D82B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759B1-739E-46C2-BE70-059C6651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9E28-04E2-4508-B6E8-60DA91A9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2F83-AA4C-4E3A-9C20-68649D83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DFEB1-C5EB-4669-8DE0-C85536A0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10AB-BA32-45CA-A592-FB2BCBEA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415-C995-43A4-A6D0-F4A1DD05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ADE9-BAEB-48A4-AFEE-2699CF0B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3C3A-02BF-4C43-B513-A176ED3F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60FB-2239-42D4-A023-FBCFE46F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102EA-9281-4319-A0BB-1D95607C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37C68-E0B7-4F23-95B4-99BE8904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B7EC-B22E-49CC-BF9B-F537DD27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1D24-5391-47CA-AE91-831C287C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76E76-310D-4DD5-B84C-14A60189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93127-85DC-4FFF-BD81-262E1ECF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4F202-C68B-41E3-866E-427BE9AA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585-4B3F-4AC6-AB89-DE03CAF9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26DE-FBAB-436B-912D-02F7E96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39A44-8EF0-42B6-959F-51F74F49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6B9C-D606-44C6-8C0E-A252B591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AEC09-F9ED-42BC-9D4A-31209A86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7350-4EA1-43F3-A60A-EB0B3256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C0983-C81E-4F26-A988-18EB1A0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F22CD-6582-4CA0-88B7-ED848A89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B87E-E3AD-41F3-9286-374AD86C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763F-CF4F-4F2B-BED5-CB1E85B0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9294-49D6-4101-8C22-C74687F6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B07-E496-45D4-A188-D595902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F3659-6AA9-49BF-AFA6-8AB3E049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F2C07-23AE-4B08-A3C8-482791DF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361FD-944C-43AD-B480-B110019E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F51F-92C6-4EC8-AF75-45C87E30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4899-B0EC-44C9-AE17-25DC0E54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B2DFF-B628-4145-94D6-EB43317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E61C8-E67D-4244-A2B5-C53BC693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376CD-7807-4C0C-BDCC-AF171C00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5EF2A-8CE1-4690-B587-479BE38C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40C47-0A78-47A6-BCAA-D9446AB6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4D1-B4BD-4BD4-8D6F-A9E11B70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92D1D-94D4-4058-8082-1C8AFAE1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603DA-EAA9-4EFB-B801-296143C4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147C-ECC7-4757-8DAA-8DE6B873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EE15C-7E09-4563-97AC-1EC3849B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6E8B-7A58-41E8-94D2-D922C92A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F5804-6A20-4908-A0B6-37CBF3B0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4335C-FD2C-442A-ACDC-DB896AC8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37D71-D141-46C3-8129-9AE31B9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61269-AB86-4C48-971F-7BABFB3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E44B4-AD10-4CA9-8813-5EFA9167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75B-2EC4-4F0F-AB98-E40AE78A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12519-9C15-47ED-AD8F-ED694E34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3CBAE-37EF-450A-8240-4AB7CA36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3E14E-E685-485F-8988-2B4E3BB0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DB96E-BBF2-4055-8137-620C71ED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A5C08-734B-437D-8590-3A4E0F12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ACA9C-7BA6-46C9-8373-FBACFF02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08CE5-8C02-45F5-A4BB-34CFC584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CFD32-C211-4C8D-B703-E08E8169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8BFFD-88A1-47E3-A8E4-2B703CBA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EEE3E-7DDC-4174-96E3-7687A216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CA9-75B5-46E4-BD47-5FC09021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6230F-44E7-42D2-BEAC-602A2D08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AA928-0ABE-481F-9106-79328190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0AF02-E0F5-441A-9174-D7DE38FA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F78AE-6F32-4FD5-8762-E5514B36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55B5E-5F6B-437A-8B5D-5C9841AD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0F1FA-A5CC-46F5-B091-6FB27E66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F2720-CFF9-434D-9A78-52AFB256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16248-854B-4805-9317-1A06CC60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5466D-6D98-49F7-A5E8-EFAB474A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C1EFE-E4C6-4A8E-A46D-73C84CC6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09F-74CB-4678-9508-AF0116C2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3474F-4BC9-4E0F-AE88-509E9537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63359-43C8-4CE1-B893-F2AB8658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8F630-CC03-40E5-B263-8ECBEAF2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0C8A2-6199-48DC-81B8-D3DC8276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168EF-51C5-414D-9C06-2C9E1022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F661A-DB01-4F87-87B5-EF355A7B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B0D93-3C5A-4DB7-97DD-47A9D3B2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78F13-B5B7-4EA1-B767-B6847CDB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7B6A3-60D7-466C-B508-114324FF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E9F37-6A94-4BDC-9DCB-F230D2B7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CF20-063A-483F-8458-70DF84ED21C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044E-B1E3-45B9-900F-809BFBB6B65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3466-6B7F-4C7E-B731-7996BBA2E16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0D29-5681-466D-8372-FD6BE888B3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ABEC-7AE7-4901-9170-185D765025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D28E-2179-494C-AEDF-2EC94220738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1A29-8D3B-48D4-8AB2-D7E2822E5C1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A1D7-C8DB-41AD-BBE6-9304BB4A676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DEC8-EA62-44FB-9414-A9C0F2E9BAA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706320" y="536400"/>
            <a:ext cx="7785360" cy="2737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35720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y Chelsea Hockenhul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2114640" y="-66600"/>
            <a:ext cx="4541760" cy="18288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571320" y="2357280"/>
            <a:ext cx="8001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Brad"/>
              </a:rPr>
              <a:t>I think that I did extremely well considering that I faced a lot o bumps (difficulties). I think that my house looks very similar to the original example that I had at first from the 3d warehouse on sketch up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33200" y="6480"/>
            <a:ext cx="4017960" cy="18288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00040" y="135684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Here  I am the very first steps to making my Roman Parthenon. All I have done is draw a rectangle and a circl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On the bottom picture I have drawn a couple of mini circles ready for me to push pull in to poles later on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Content Placeholder 5" descr="IMG000080.jpg"/>
          <p:cNvPicPr/>
          <p:nvPr/>
        </p:nvPicPr>
        <p:blipFill>
          <a:blip r:embed="rId2"/>
          <a:srcRect l="20633" t="33874" r="25405" b="0"/>
          <a:stretch/>
        </p:blipFill>
        <p:spPr>
          <a:xfrm>
            <a:off x="4357800" y="0"/>
            <a:ext cx="4786200" cy="3414600"/>
          </a:xfrm>
          <a:prstGeom prst="rect">
            <a:avLst/>
          </a:prstGeom>
          <a:ln w="0">
            <a:noFill/>
          </a:ln>
        </p:spPr>
      </p:pic>
      <p:pic>
        <p:nvPicPr>
          <p:cNvPr id="411" name="Content Placeholder 4" descr="IMG000081.jpg"/>
          <p:cNvPicPr/>
          <p:nvPr/>
        </p:nvPicPr>
        <p:blipFill>
          <a:blip r:embed="rId3"/>
          <a:srcRect l="5882" t="5890" r="0" b="31370"/>
          <a:stretch/>
        </p:blipFill>
        <p:spPr>
          <a:xfrm>
            <a:off x="3571920" y="3286080"/>
            <a:ext cx="5572080" cy="2500200"/>
          </a:xfrm>
          <a:prstGeom prst="rect">
            <a:avLst/>
          </a:prstGeom>
          <a:ln w="0">
            <a:noFill/>
          </a:ln>
        </p:spPr>
      </p:pic>
      <p:cxnSp>
        <p:nvCxnSpPr>
          <p:cNvPr id="412" name="Straight Arrow Connector 8"/>
          <p:cNvCxnSpPr/>
          <p:nvPr/>
        </p:nvCxnSpPr>
        <p:spPr>
          <a:xfrm flipV="1">
            <a:off x="2786040" y="4928760"/>
            <a:ext cx="1215360" cy="28656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13" name="Straight Arrow Connector 10"/>
          <p:cNvCxnSpPr/>
          <p:nvPr/>
        </p:nvCxnSpPr>
        <p:spPr>
          <a:xfrm flipV="1">
            <a:off x="3286080" y="2428560"/>
            <a:ext cx="929520" cy="35784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3151080" cy="18288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28760" y="142848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At the moment I am making the base for my Roman Parthenon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I have started by drawing a circle and push pulling it. Underneath it is a square, so that when it I make the whole cylinder wall shape I can put poles on it to make it look more effectiv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575160" y="609120"/>
            <a:ext cx="5340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Content Placeholder 4" descr="IMG000069.jpg"/>
          <p:cNvPicPr/>
          <p:nvPr/>
        </p:nvPicPr>
        <p:blipFill>
          <a:blip r:embed="rId2"/>
          <a:srcRect l="25097" t="44583" r="16795" b="3260"/>
          <a:stretch/>
        </p:blipFill>
        <p:spPr>
          <a:xfrm>
            <a:off x="3571920" y="571680"/>
            <a:ext cx="5357880" cy="4857480"/>
          </a:xfrm>
          <a:prstGeom prst="rect">
            <a:avLst/>
          </a:prstGeom>
          <a:ln w="0">
            <a:noFill/>
          </a:ln>
        </p:spPr>
      </p:pic>
      <p:cxnSp>
        <p:nvCxnSpPr>
          <p:cNvPr id="418" name="Straight Arrow Connector 9"/>
          <p:cNvCxnSpPr/>
          <p:nvPr/>
        </p:nvCxnSpPr>
        <p:spPr>
          <a:xfrm flipV="1">
            <a:off x="3357720" y="2285640"/>
            <a:ext cx="1357920" cy="92952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19" name="Straight Arrow Connector 10"/>
          <p:cNvCxnSpPr/>
          <p:nvPr/>
        </p:nvCxnSpPr>
        <p:spPr>
          <a:xfrm flipV="1">
            <a:off x="3357720" y="4142520"/>
            <a:ext cx="2286720" cy="14364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311040" y="6480"/>
            <a:ext cx="2876760" cy="1828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28760" y="1499760"/>
            <a:ext cx="300816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Here I have finished all the different levels for the out side effect.  All that is left to be able to complete the outside main shape is a dome roof top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Content Placeholder 4" descr="IMG000072.jpg"/>
          <p:cNvPicPr/>
          <p:nvPr/>
        </p:nvPicPr>
        <p:blipFill>
          <a:blip r:embed="rId2"/>
          <a:srcRect l="26326" t="18929" r="19641" b="0"/>
          <a:stretch/>
        </p:blipFill>
        <p:spPr>
          <a:xfrm>
            <a:off x="4572000" y="247680"/>
            <a:ext cx="4286160" cy="5494320"/>
          </a:xfrm>
          <a:prstGeom prst="rect">
            <a:avLst/>
          </a:prstGeom>
          <a:ln w="0">
            <a:noFill/>
          </a:ln>
        </p:spPr>
      </p:pic>
      <p:cxnSp>
        <p:nvCxnSpPr>
          <p:cNvPr id="423" name="Straight Arrow Connector 6"/>
          <p:cNvCxnSpPr/>
          <p:nvPr/>
        </p:nvCxnSpPr>
        <p:spPr>
          <a:xfrm flipV="1">
            <a:off x="3571920" y="1999440"/>
            <a:ext cx="2000880" cy="142956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298440" y="6480"/>
            <a:ext cx="2981160" cy="18288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642600" y="1499760"/>
            <a:ext cx="2500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I have now added the last step to making the basic out side shape. The roof is called a dome roof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Content Placeholder 6" descr="IMG000087.jpg"/>
          <p:cNvPicPr/>
          <p:nvPr/>
        </p:nvPicPr>
        <p:blipFill>
          <a:blip r:embed="rId2"/>
          <a:srcRect l="19003" t="10220" r="21590" b="0"/>
          <a:stretch/>
        </p:blipFill>
        <p:spPr>
          <a:xfrm>
            <a:off x="4113360" y="500040"/>
            <a:ext cx="4538520" cy="5143680"/>
          </a:xfrm>
          <a:prstGeom prst="rect">
            <a:avLst/>
          </a:prstGeom>
          <a:ln w="0">
            <a:noFill/>
          </a:ln>
        </p:spPr>
      </p:pic>
      <p:cxnSp>
        <p:nvCxnSpPr>
          <p:cNvPr id="427" name="Straight Arrow Connector 8"/>
          <p:cNvCxnSpPr/>
          <p:nvPr/>
        </p:nvCxnSpPr>
        <p:spPr>
          <a:xfrm flipV="1">
            <a:off x="3000240" y="2071440"/>
            <a:ext cx="2286720" cy="135792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476280" y="-208080"/>
            <a:ext cx="2919240" cy="18288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213840" y="1071720"/>
            <a:ext cx="3714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I am about thee quarters away from finishing here. I have just drawn a rectangle at a suitable size and then I drew 1 pole and push/pulled it in the right corner. To make it easier for my self I clicked on the move/copy tool and held the ctrl button down and copied it to the left corner. After that I typped /7 and Sketch up automatically added ore rows for m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2"/>
          <a:srcRect l="5350" t="38017" r="1010" b="8480"/>
          <a:stretch/>
        </p:blipFill>
        <p:spPr>
          <a:xfrm>
            <a:off x="3929040" y="2143080"/>
            <a:ext cx="5000760" cy="2571840"/>
          </a:xfrm>
          <a:prstGeom prst="rect">
            <a:avLst/>
          </a:prstGeom>
          <a:ln w="0">
            <a:noFill/>
          </a:ln>
        </p:spPr>
      </p:pic>
      <p:cxnSp>
        <p:nvCxnSpPr>
          <p:cNvPr id="431" name="Straight Arrow Connector 6"/>
          <p:cNvCxnSpPr/>
          <p:nvPr/>
        </p:nvCxnSpPr>
        <p:spPr>
          <a:xfrm flipV="1">
            <a:off x="3929040" y="4571640"/>
            <a:ext cx="4572720" cy="100080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32" name="Straight Arrow Connector 7"/>
          <p:cNvCxnSpPr/>
          <p:nvPr/>
        </p:nvCxnSpPr>
        <p:spPr>
          <a:xfrm flipV="1">
            <a:off x="3285720" y="4571280"/>
            <a:ext cx="786600" cy="50076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542880" y="6480"/>
            <a:ext cx="2859120" cy="18288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28760" y="1428480"/>
            <a:ext cx="30081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Here I followed a tutorial to help me build the triangle roof part of the hous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2"/>
          <a:srcRect l="5291" t="15472" r="1069" b="60991"/>
          <a:stretch/>
        </p:blipFill>
        <p:spPr>
          <a:xfrm>
            <a:off x="3857760" y="1571760"/>
            <a:ext cx="5000400" cy="292896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5"/>
          <p:cNvCxnSpPr/>
          <p:nvPr/>
        </p:nvCxnSpPr>
        <p:spPr>
          <a:xfrm>
            <a:off x="856800" y="3071880"/>
            <a:ext cx="4715640" cy="28656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542880" y="79200"/>
            <a:ext cx="2925720" cy="1822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28760" y="1428840"/>
            <a:ext cx="3008160" cy="29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e3b30"/>
                </a:solidFill>
                <a:latin typeface="Brad"/>
              </a:rPr>
              <a:t>The final step that  have done is add the colour. I also went on to the  3d warehouse and got 3 trees and a Roman man to make my house look more effective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rcRect l="22680" t="17608" r="10435" b="11759"/>
          <a:stretch/>
        </p:blipFill>
        <p:spPr>
          <a:xfrm>
            <a:off x="3641760" y="785880"/>
            <a:ext cx="53038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440" name="Straight Arrow Connector 5"/>
          <p:cNvCxnSpPr/>
          <p:nvPr/>
        </p:nvCxnSpPr>
        <p:spPr>
          <a:xfrm>
            <a:off x="3071520" y="1142640"/>
            <a:ext cx="2215080" cy="85788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41" name="Straight Arrow Connector 6"/>
          <p:cNvCxnSpPr/>
          <p:nvPr/>
        </p:nvCxnSpPr>
        <p:spPr>
          <a:xfrm flipV="1">
            <a:off x="2357280" y="3142440"/>
            <a:ext cx="4858560" cy="71532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42" name="Straight Arrow Connector 7"/>
          <p:cNvCxnSpPr/>
          <p:nvPr/>
        </p:nvCxnSpPr>
        <p:spPr>
          <a:xfrm flipV="1">
            <a:off x="1928520" y="3928320"/>
            <a:ext cx="6429960" cy="214920"/>
          </a:xfrm>
          <a:prstGeom prst="straightConnector1">
            <a:avLst/>
          </a:prstGeom>
          <a:ln w="7632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9028080" cy="1854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"/>
          <p:cNvPicPr/>
          <p:nvPr/>
        </p:nvPicPr>
        <p:blipFill>
          <a:blip r:embed="rId2"/>
          <a:srcRect l="33398" t="15000" r="15038" b="6250"/>
          <a:stretch/>
        </p:blipFill>
        <p:spPr>
          <a:xfrm>
            <a:off x="214200" y="1643040"/>
            <a:ext cx="4041720" cy="3857760"/>
          </a:xfrm>
          <a:prstGeom prst="rect">
            <a:avLst/>
          </a:prstGeom>
          <a:ln w="0">
            <a:noFill/>
          </a:ln>
        </p:spPr>
      </p:pic>
      <p:sp>
        <p:nvSpPr>
          <p:cNvPr id="445" name="TextBox 5"/>
          <p:cNvSpPr/>
          <p:nvPr/>
        </p:nvSpPr>
        <p:spPr>
          <a:xfrm>
            <a:off x="785880" y="58579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7"/>
          <p:cNvSpPr/>
          <p:nvPr/>
        </p:nvSpPr>
        <p:spPr>
          <a:xfrm>
            <a:off x="5572080" y="58579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"/>
              </a:rPr>
              <a:t>MY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3"/>
          <a:srcRect l="23634" t="20938" r="10742" b="17187"/>
          <a:stretch/>
        </p:blipFill>
        <p:spPr>
          <a:xfrm>
            <a:off x="4643280" y="1643040"/>
            <a:ext cx="42642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3:06:27Z</dcterms:created>
  <dc:creator> </dc:creator>
  <dc:description/>
  <dc:language>en-US</dc:language>
  <cp:lastModifiedBy> </cp:lastModifiedBy>
  <dcterms:modified xsi:type="dcterms:W3CDTF">2009-09-04T19:51:08Z</dcterms:modified>
  <cp:revision>22</cp:revision>
  <dc:subject/>
  <dc:title>Roman Parthenon steps</dc:title>
</cp:coreProperties>
</file>